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1.png" ContentType="image/png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D91-BA3E-49CD-AAC0-DE7FB110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1C7-208E-4014-81F2-A5C69D1D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CE6-FC40-420A-8012-BD78D2BC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153-2915-4F81-9450-390098E2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EF4-7399-4B30-B48A-BBFCAA24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0E7-CC24-4562-8E60-F8425603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3D7-6389-475F-8859-4802A65D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DAE-5A2A-456F-A2C2-05B45CA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512-89F2-4CC1-8CA3-A9A068E3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781-AC55-47C6-8177-AB850F3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88A-EBB6-43C9-A774-DAFA6002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3E6-580B-49D9-9085-A7C4DAF0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18 March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S.Rango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7B15-FEF5-4206-9BC4-400D387B1CD4}" type="slidenum">
              <a:rPr b="1" lang="en-US" sz="16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3360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I2002b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187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14400" y="3808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79440" y="42228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RN PROTOTYPE F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UFACT PRO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view of mechanical design &amp; constr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143-4C78-40F7-90D8-185B4393E7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 cooling circui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066680"/>
          <a:ext cx="914400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87E-30A7-44A5-9641-0D0D96CF27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8380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of the all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A 6082-T6 / (AlMgSi1) is an acceptable compromise between the 4 main characteristic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lding a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al proper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istance to corro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D65-D30C-4443-8080-C1AB9C2741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rototype is entirely welded in the CERN workshop by Electron Beam Weld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vantages of EBW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ll adapted to thin wall thickness piec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deformations due to the narrow smelting bath (total angle: about 30</a:t>
            </a:r>
            <a:r>
              <a:rPr b="0" lang="en-US" sz="1200" spc="-1" strike="noStrike" baseline="7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homogeneity (vacuum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ort transition are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imum loss of initial mechanical characteristics (no more than 15% to 20%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dvantages of EBW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ay generally long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precision required for the junct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cost (between 20% and 50% more, according the design and dimension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33B-210E-4BAE-8E77-FE7F1962F3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BW – CERN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EBW%20installation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12520" y="38862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Vacuum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05360" y="1905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eam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42A-05E8-494A-B2EE-24069451B6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chanic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in featur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ing in conventional mechanical 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ckness of the walls calculated for a minimum absor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rovement of the cooling efficienc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cost radiation hardness insul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ighligh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a double sk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rayers directly feed by an annular low pressure water fil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ling circuit shared out for the waist z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ner waist exchange surface magnified by a factor 2 (round shape inner screw threa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amic balls used as spacers between inner conductor and double skin to ensure the concentricity of the both compone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a glass disc insulator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A00-89E1-4F23-A5F3-CDECC46D88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%202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5000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62520" y="1523880"/>
            <a:ext cx="1600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1BB-2849-4818-B327-54C48F9E8D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%201" descr=""/>
          <p:cNvPicPr/>
          <p:nvPr/>
        </p:nvPicPr>
        <p:blipFill>
          <a:blip r:embed="rId1"/>
          <a:stretch/>
        </p:blipFill>
        <p:spPr>
          <a:xfrm>
            <a:off x="3352680" y="533520"/>
            <a:ext cx="3970440" cy="5670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080" y="136044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457200"/>
            <a:ext cx="175284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609480"/>
            <a:ext cx="4572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57200"/>
            <a:ext cx="2971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1000" y="327672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7360" y="502920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gnification: x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der polarized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52800" y="57913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ERN/EST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.B. Welding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DCF-BB52-4C50-92A1-58C7A57196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9144000" cy="52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4290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133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Glass insulator d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209680"/>
            <a:ext cx="761760" cy="15264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2160" y="20574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Outer 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350532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Inner 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286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276720"/>
            <a:ext cx="75960" cy="304560"/>
          </a:xfrm>
          <a:prstGeom prst="upArrow">
            <a:avLst>
              <a:gd name="adj1" fmla="val 50000"/>
              <a:gd name="adj2" fmla="val 1002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640" y="556272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out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79132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0560" y="152388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Electrical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to the strip-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286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106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inlets (circui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1430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72428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Water in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(circuit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9528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505320"/>
            <a:ext cx="533160" cy="228600"/>
          </a:xfrm>
          <a:custGeom>
            <a:avLst/>
            <a:gdLst>
              <a:gd name="textAreaLeft" fmla="*/ 8316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3716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33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" y="286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4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79840" y="171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415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990720"/>
          <a:ext cx="3143160" cy="25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90720"/>
                    <a:ext cx="3143160" cy="25527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971800" y="3809880"/>
          <a:ext cx="3333600" cy="23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809880"/>
                    <a:ext cx="3333600" cy="23828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1295280"/>
          <a:ext cx="3386160" cy="223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3386160" cy="22338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FC2-CB3A-4840-AE57-FC0B30A8B3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295280"/>
          <a:ext cx="876312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76312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5562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ner conductor connection fl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A20-73A3-42BF-BF5B-4181A5D109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rilling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38320" y="3809520"/>
            <a:ext cx="2590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ril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ion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ial ho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F36-4FE4-4B7D-B5ED-69BF39770D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5257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 parameters &amp; dimen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cooling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erial &amp; Wel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ruction phases (CERN worksho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imum life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s forese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6AD-67AA-4675-A86A-154A3903F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InnerCond3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533376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ound shape thread inside the wai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635-F2FA-4C6F-9EED-5EC5F56DB8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poussage1" descr=""/>
          <p:cNvPicPr/>
          <p:nvPr/>
        </p:nvPicPr>
        <p:blipFill>
          <a:blip r:embed="rId1"/>
          <a:stretch/>
        </p:blipFill>
        <p:spPr>
          <a:xfrm>
            <a:off x="0" y="102888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248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34320" y="312372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nching of the outer sk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Repoussage15" descr=""/>
          <p:cNvPicPr/>
          <p:nvPr/>
        </p:nvPicPr>
        <p:blipFill>
          <a:blip r:embed="rId2"/>
          <a:stretch/>
        </p:blipFill>
        <p:spPr>
          <a:xfrm>
            <a:off x="0" y="9907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6BE-8304-4293-9C4D-56037AB538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lassInsulator%20disc" descr=""/>
          <p:cNvPicPr/>
          <p:nvPr/>
        </p:nvPicPr>
        <p:blipFill>
          <a:blip r:embed="rId1"/>
          <a:stretch/>
        </p:blipFill>
        <p:spPr>
          <a:xfrm>
            <a:off x="0" y="11430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05520" y="46483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las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nsulator di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077-A454-47E7-BB18-9792E98D74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48160" y="3733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ont side assemb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FrontSide%20Assembly" descr=""/>
          <p:cNvPicPr/>
          <p:nvPr/>
        </p:nvPicPr>
        <p:blipFill>
          <a:blip r:embed="rId1"/>
          <a:stretch/>
        </p:blipFill>
        <p:spPr>
          <a:xfrm>
            <a:off x="0" y="13716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471-8F09-4514-ACDC-3069676407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38680" y="33526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ner condu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Inner%20Assembly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5BE-4423-4A0B-A686-623E35930F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77120" y="320004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ner and outer sk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InnerSkin" descr=""/>
          <p:cNvPicPr/>
          <p:nvPr/>
        </p:nvPicPr>
        <p:blipFill>
          <a:blip r:embed="rId1"/>
          <a:stretch/>
        </p:blipFill>
        <p:spPr>
          <a:xfrm>
            <a:off x="0" y="137160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149" name="Outer%20pieces" descr=""/>
          <p:cNvPicPr/>
          <p:nvPr/>
        </p:nvPicPr>
        <p:blipFill>
          <a:blip r:embed="rId2"/>
          <a:stretch/>
        </p:blipFill>
        <p:spPr>
          <a:xfrm>
            <a:off x="0" y="137160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3E7-F086-4D0F-B8AD-17C1DC03CB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uction of the horn at 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71840" y="2895480"/>
            <a:ext cx="2971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herical blind holes for ceramic balls spac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Spacing%20Balls" descr=""/>
          <p:cNvPicPr/>
          <p:nvPr/>
        </p:nvPicPr>
        <p:blipFill>
          <a:blip r:embed="rId1"/>
          <a:stretch/>
        </p:blipFill>
        <p:spPr>
          <a:xfrm>
            <a:off x="0" y="14479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DB7-F886-4202-AD23-3DD628F43F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fetime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tigue is the major design issu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 study is going 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YS calculation of stresses and fatigue analysis (multi-axial stress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static calculations give tensile stress of 14.8 Mpa (in the most critical section of the waist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ing  that the limit of fatigue for 10</a:t>
            </a:r>
            <a:r>
              <a:rPr b="0" lang="en-US" sz="1400" spc="-1" strike="noStrike" baseline="8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ractions is 100 Mpa, the survival of the prototype for 2 x 10</a:t>
            </a:r>
            <a:r>
              <a:rPr b="0" lang="en-US" sz="1400" spc="-1" strike="noStrike" baseline="66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ulses* (required value) does not seem unrealisti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Corresponding to 6 weeks of working operation at 50H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A00033%5B1%5D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724640" cy="31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E01-23DB-43EF-8754-375DC11543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sts fore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 kA / 1 Hz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bration experimental tes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isplacement capacitive sensor – W. Cooseman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N/S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b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Magnetic measurement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1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5000A D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July 200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t load transfer t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0 kA / 1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tep 3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300 kA / 50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rot="21123000">
            <a:off x="2210040" y="4571640"/>
            <a:ext cx="394020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OSTP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UDGET RESTRICTION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FE4-39F7-4337-B2D1-A4F4876454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,  if phases of tests 2 and 3 are delayed or cancelled, step 1a, 1b and 1c allow by extrapolation to confirm important results about the reliability and the transfer of the heat lo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vertheless, a lot of questions are still without answers, in parti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llation of the target in the wa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n exchan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chanical support fr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c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8B6-8186-4C43-A2B9-EC17A23946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rn prototype developed in the frame of the NUFACT Target-Collector acti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in B.  -  Gilardoni S.  -  Grawer G  -  Haseroth H.  -  Maire G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ugain J-M.  -  Rangod S.  -  Ravn H.  -  Sievers P.  -  Voelker 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ference: CERN-NUFACT Note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550-8CCB-44A2-A0B4-E5BCA2F3CD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9903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y the reliability of 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300kA-50Hz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n built according the conventional technique of pulsed horns and providing a minimum lifetime of one mont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2C3-7E60-497F-95D6-99AC60BA8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ed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horn, subject of the presentation, could be the inner component of a two stages coaxial horns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cond outer horn could complete the focusing effect of the first inner 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is second outer horn is not considered in this phase of the projec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433520"/>
          <a:ext cx="769608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33520"/>
                    <a:ext cx="76960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B1B-3FA4-46BA-871C-6D5854F0A5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us of the wai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ak cur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0 k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etition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lse leng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tage on the hor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00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ms current in the hor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.5 k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 dissipation (by current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9 k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in dep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25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169-3E2D-4675-962B-31F9F75C68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03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diame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42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diameter (electrical connection flange)  895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e waist apert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56 m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st outer diame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8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rage waist wall thick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6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ble skin thickn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2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43D-E8ED-49D9-8CCD-A6D79C3A71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863640"/>
          <a:ext cx="914400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63640"/>
                    <a:ext cx="91440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mensions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429000"/>
            <a:ext cx="76212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FB5-7314-4BEE-9058-7EB4CC6686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 cooling circui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n power dissipation in the horn by current (kW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er flow needed wit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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en-US" sz="1200" spc="-1" strike="noStrike" baseline="8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    (l/m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imum allowable water flow in the horn  (l/m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ing water pressure (bar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1-1.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ected temperature increase on the neck (</a:t>
            </a:r>
            <a:r>
              <a:rPr b="0" lang="en-US" sz="1200" spc="-1" strike="noStrike" baseline="8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wC1/PwC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Symath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wC1: Power extracted through the annular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wC2: Power extracted with showers from sprayer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523880"/>
          <a:ext cx="815328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15328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6C6-8BE6-4E3D-BF44-C4EC198BF5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5:44:13Z</dcterms:created>
  <dc:creator>rangod</dc:creator>
  <dc:description/>
  <dc:language>en-US</dc:language>
  <cp:lastModifiedBy>wallon</cp:lastModifiedBy>
  <dcterms:modified xsi:type="dcterms:W3CDTF">2002-12-17T14:42:53Z</dcterms:modified>
  <cp:revision>90</cp:revision>
  <dc:subject/>
  <dc:title>PowerPoint Presentation</dc:title>
</cp:coreProperties>
</file>